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3E7D-D047-4AB2-99FF-553848C8B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6105-5A18-4CC8-8913-80DF657A5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DC0-5C36-40A8-91F5-145EA937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2B5-6A8F-429E-9673-82528094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A82-1595-4E9E-AE01-BDD1F094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69E-4B7E-4F6F-A7DE-F2A1D23F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297-F8F6-4900-9ED3-E4376D54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2F4-C6E9-4223-AEC1-2A5CAEC1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8B9-83E7-486A-8F0B-85F5A805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429-7FD3-4F78-8C3F-C01D54CE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FDE-8C8A-466A-8D5A-2ECF2E4F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5AB-266B-49BE-AA66-CE84EE25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127-4120-4C66-9023-A377FCF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51A-A842-4601-930F-883CD97A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BABF-475A-44BD-805D-EEDFF5837F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C4F7-F7B7-440F-B1C9-F99B66EA0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6" name="Rectangle 10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505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11"/>
            <p:cNvGrpSpPr/>
            <p:nvPr/>
          </p:nvGrpSpPr>
          <p:grpSpPr>
            <a:xfrm>
              <a:off x="106200" y="333360"/>
              <a:ext cx="505080" cy="2806560"/>
              <a:chOff x="106200" y="333360"/>
              <a:chExt cx="505080" cy="2806560"/>
            </a:xfrm>
          </p:grpSpPr>
          <p:sp>
            <p:nvSpPr>
              <p:cNvPr id="8" name="Rectangle 12"/>
              <p:cNvSpPr/>
              <p:nvPr/>
            </p:nvSpPr>
            <p:spPr>
              <a:xfrm>
                <a:off x="106200" y="333360"/>
                <a:ext cx="505080" cy="503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3"/>
              <p:cNvSpPr/>
              <p:nvPr/>
            </p:nvSpPr>
            <p:spPr>
              <a:xfrm>
                <a:off x="106200" y="907920"/>
                <a:ext cx="505080" cy="503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4"/>
              <p:cNvSpPr/>
              <p:nvPr/>
            </p:nvSpPr>
            <p:spPr>
              <a:xfrm>
                <a:off x="106200" y="1484280"/>
                <a:ext cx="505080" cy="503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5"/>
              <p:cNvSpPr/>
              <p:nvPr/>
            </p:nvSpPr>
            <p:spPr>
              <a:xfrm>
                <a:off x="106200" y="2060640"/>
                <a:ext cx="505080" cy="503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6"/>
              <p:cNvSpPr/>
              <p:nvPr/>
            </p:nvSpPr>
            <p:spPr>
              <a:xfrm>
                <a:off x="106200" y="2637000"/>
                <a:ext cx="505080" cy="50292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123A-B3BD-4DDC-9BAB-8D826796C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1"/>
          <p:cNvSpPr/>
          <p:nvPr/>
        </p:nvSpPr>
        <p:spPr>
          <a:xfrm>
            <a:off x="4680" y="838080"/>
            <a:ext cx="90918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0"/>
          <p:cNvSpPr/>
          <p:nvPr/>
        </p:nvSpPr>
        <p:spPr>
          <a:xfrm>
            <a:off x="4113360" y="1887480"/>
            <a:ext cx="1039680" cy="10494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9"/>
          <p:cNvSpPr/>
          <p:nvPr/>
        </p:nvSpPr>
        <p:spPr>
          <a:xfrm>
            <a:off x="4627440" y="2062080"/>
            <a:ext cx="5828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MO-RAL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8"/>
          <p:cNvSpPr/>
          <p:nvPr/>
        </p:nvSpPr>
        <p:spPr>
          <a:xfrm>
            <a:off x="4132440" y="2081160"/>
            <a:ext cx="46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M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976320" y="1430280"/>
            <a:ext cx="4738680" cy="466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me Ministers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6"/>
          <p:cNvSpPr/>
          <p:nvPr/>
        </p:nvSpPr>
        <p:spPr>
          <a:xfrm>
            <a:off x="33480" y="5734080"/>
            <a:ext cx="1962000" cy="10494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al Linkages Ke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(MoUs: e.g., data flow, technical support, focal points, financial support, etc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5"/>
          <p:cNvSpPr/>
          <p:nvPr/>
        </p:nvSpPr>
        <p:spPr>
          <a:xfrm>
            <a:off x="7337520" y="1506600"/>
            <a:ext cx="1654200" cy="68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 Admin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AS, Reg. Secretariat, Disaster Comtt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Gov. Author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DED, District Council, Disaster Committe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4"/>
          <p:cNvSpPr/>
          <p:nvPr/>
        </p:nvSpPr>
        <p:spPr>
          <a:xfrm>
            <a:off x="7278840" y="2416320"/>
            <a:ext cx="1749240" cy="2079360"/>
          </a:xfrm>
          <a:prstGeom prst="rect">
            <a:avLst/>
          </a:pr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ct Food Security and Nutrition Teams (MUCHAL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centralization of FS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 Food Security and Nutrition 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bje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ecretari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ru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haired by DPO, DALDO secrtry;  with relevant ministries, NGOs, and civil society advi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ituation Analysis, Intervention Analysis, information management,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3"/>
          <p:cNvSpPr/>
          <p:nvPr/>
        </p:nvSpPr>
        <p:spPr>
          <a:xfrm>
            <a:off x="2568600" y="3276720"/>
            <a:ext cx="1165320" cy="349200"/>
          </a:xfrm>
          <a:prstGeom prst="rect">
            <a:avLst/>
          </a:prstGeom>
          <a:solidFill>
            <a:srgbClr val="ffcc99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Tanzania Food and Nutrition C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2"/>
          <p:cNvSpPr/>
          <p:nvPr/>
        </p:nvSpPr>
        <p:spPr>
          <a:xfrm>
            <a:off x="5207040" y="2043000"/>
            <a:ext cx="1917720" cy="8938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Agriculture, Food Security, and Cooperativ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g. Sector Lead Ministri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1"/>
          <p:cNvSpPr/>
          <p:nvPr/>
        </p:nvSpPr>
        <p:spPr>
          <a:xfrm>
            <a:off x="2568600" y="4888080"/>
            <a:ext cx="116532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cadem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Sokoine, UDSM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0"/>
          <p:cNvSpPr/>
          <p:nvPr/>
        </p:nvSpPr>
        <p:spPr>
          <a:xfrm flipH="1" flipV="1">
            <a:off x="8163000" y="2178000"/>
            <a:ext cx="144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9"/>
          <p:cNvSpPr/>
          <p:nvPr/>
        </p:nvSpPr>
        <p:spPr>
          <a:xfrm>
            <a:off x="1325520" y="2120760"/>
            <a:ext cx="6127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Water and Irrig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8"/>
          <p:cNvSpPr/>
          <p:nvPr/>
        </p:nvSpPr>
        <p:spPr>
          <a:xfrm>
            <a:off x="3443400" y="2120760"/>
            <a:ext cx="62064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Health and Social Welfa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7"/>
          <p:cNvSpPr/>
          <p:nvPr/>
        </p:nvSpPr>
        <p:spPr>
          <a:xfrm>
            <a:off x="2705040" y="2120760"/>
            <a:ext cx="69840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Industry Trade and Mark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6"/>
          <p:cNvSpPr/>
          <p:nvPr/>
        </p:nvSpPr>
        <p:spPr>
          <a:xfrm>
            <a:off x="1976400" y="2120760"/>
            <a:ext cx="69840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Livestock Develop. and Fisheri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5"/>
          <p:cNvSpPr/>
          <p:nvPr/>
        </p:nvSpPr>
        <p:spPr>
          <a:xfrm>
            <a:off x="2568600" y="3713040"/>
            <a:ext cx="11653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Bureau of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4"/>
          <p:cNvSpPr/>
          <p:nvPr/>
        </p:nvSpPr>
        <p:spPr>
          <a:xfrm flipV="1">
            <a:off x="1606680" y="1887480"/>
            <a:ext cx="144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3"/>
          <p:cNvSpPr/>
          <p:nvPr/>
        </p:nvSpPr>
        <p:spPr>
          <a:xfrm flipV="1">
            <a:off x="2306520" y="1887480"/>
            <a:ext cx="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2"/>
          <p:cNvSpPr/>
          <p:nvPr/>
        </p:nvSpPr>
        <p:spPr>
          <a:xfrm flipV="1">
            <a:off x="3054240" y="1887480"/>
            <a:ext cx="180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1"/>
          <p:cNvSpPr/>
          <p:nvPr/>
        </p:nvSpPr>
        <p:spPr>
          <a:xfrm flipV="1">
            <a:off x="3743280" y="1887480"/>
            <a:ext cx="180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0"/>
          <p:cNvSpPr/>
          <p:nvPr/>
        </p:nvSpPr>
        <p:spPr>
          <a:xfrm>
            <a:off x="704880" y="16351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9"/>
          <p:cNvSpPr/>
          <p:nvPr/>
        </p:nvSpPr>
        <p:spPr>
          <a:xfrm flipV="1">
            <a:off x="353880" y="3150720"/>
            <a:ext cx="3846600" cy="1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8"/>
          <p:cNvSpPr/>
          <p:nvPr/>
        </p:nvSpPr>
        <p:spPr>
          <a:xfrm>
            <a:off x="3733920" y="343224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7"/>
          <p:cNvSpPr/>
          <p:nvPr/>
        </p:nvSpPr>
        <p:spPr>
          <a:xfrm>
            <a:off x="3733920" y="3878280"/>
            <a:ext cx="4665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6"/>
          <p:cNvSpPr/>
          <p:nvPr/>
        </p:nvSpPr>
        <p:spPr>
          <a:xfrm>
            <a:off x="6638760" y="5267160"/>
            <a:ext cx="349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6978600" y="5052960"/>
            <a:ext cx="106848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Food Reserve Ag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4"/>
          <p:cNvSpPr/>
          <p:nvPr/>
        </p:nvSpPr>
        <p:spPr>
          <a:xfrm>
            <a:off x="7240680" y="6083280"/>
            <a:ext cx="150480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N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3"/>
          <p:cNvSpPr/>
          <p:nvPr/>
        </p:nvSpPr>
        <p:spPr>
          <a:xfrm>
            <a:off x="7230960" y="5656320"/>
            <a:ext cx="1514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Partners--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griculture Working Grou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2"/>
          <p:cNvSpPr/>
          <p:nvPr/>
        </p:nvSpPr>
        <p:spPr>
          <a:xfrm>
            <a:off x="2568600" y="4189320"/>
            <a:ext cx="116532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Tanzan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eteorological Ag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1"/>
          <p:cNvSpPr/>
          <p:nvPr/>
        </p:nvSpPr>
        <p:spPr>
          <a:xfrm>
            <a:off x="6648480" y="58402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0"/>
          <p:cNvSpPr/>
          <p:nvPr/>
        </p:nvSpPr>
        <p:spPr>
          <a:xfrm>
            <a:off x="6667560" y="623880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9"/>
          <p:cNvSpPr/>
          <p:nvPr/>
        </p:nvSpPr>
        <p:spPr>
          <a:xfrm>
            <a:off x="936720" y="6032520"/>
            <a:ext cx="933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936720" y="6281640"/>
            <a:ext cx="933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2287440" y="293688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6"/>
          <p:cNvSpPr/>
          <p:nvPr/>
        </p:nvSpPr>
        <p:spPr>
          <a:xfrm>
            <a:off x="9096480" y="126540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5"/>
          <p:cNvSpPr/>
          <p:nvPr/>
        </p:nvSpPr>
        <p:spPr>
          <a:xfrm>
            <a:off x="8978760" y="1187280"/>
            <a:ext cx="117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4"/>
          <p:cNvSpPr/>
          <p:nvPr/>
        </p:nvSpPr>
        <p:spPr>
          <a:xfrm>
            <a:off x="2568600" y="5432400"/>
            <a:ext cx="11653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…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3"/>
          <p:cNvSpPr/>
          <p:nvPr/>
        </p:nvSpPr>
        <p:spPr>
          <a:xfrm flipV="1">
            <a:off x="1092240" y="1887480"/>
            <a:ext cx="144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2"/>
          <p:cNvSpPr/>
          <p:nvPr/>
        </p:nvSpPr>
        <p:spPr>
          <a:xfrm>
            <a:off x="3733920" y="506412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1"/>
          <p:cNvSpPr/>
          <p:nvPr/>
        </p:nvSpPr>
        <p:spPr>
          <a:xfrm flipH="1">
            <a:off x="6648480" y="556740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0"/>
          <p:cNvSpPr/>
          <p:nvPr/>
        </p:nvSpPr>
        <p:spPr>
          <a:xfrm>
            <a:off x="3054240" y="2936880"/>
            <a:ext cx="180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9"/>
          <p:cNvSpPr/>
          <p:nvPr/>
        </p:nvSpPr>
        <p:spPr>
          <a:xfrm>
            <a:off x="1577880" y="2936880"/>
            <a:ext cx="180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"/>
          <p:cNvSpPr/>
          <p:nvPr/>
        </p:nvSpPr>
        <p:spPr>
          <a:xfrm>
            <a:off x="936720" y="293688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7"/>
          <p:cNvSpPr/>
          <p:nvPr/>
        </p:nvSpPr>
        <p:spPr>
          <a:xfrm flipV="1">
            <a:off x="3627360" y="29368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6"/>
          <p:cNvSpPr/>
          <p:nvPr/>
        </p:nvSpPr>
        <p:spPr>
          <a:xfrm>
            <a:off x="3724200" y="442260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3724200" y="558792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7240680" y="6453360"/>
            <a:ext cx="1504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ivil Societies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NG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6657840" y="6626160"/>
            <a:ext cx="5828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7454880" y="4651200"/>
            <a:ext cx="13780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rd and Village Offici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>
            <a:off x="8153280" y="4419720"/>
            <a:ext cx="11160" cy="24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8"/>
          <p:cNvGrpSpPr/>
          <p:nvPr/>
        </p:nvGrpSpPr>
        <p:grpSpPr>
          <a:xfrm>
            <a:off x="5540400" y="1149480"/>
            <a:ext cx="1865160" cy="582480"/>
            <a:chOff x="5540400" y="1149480"/>
            <a:chExt cx="1865160" cy="582480"/>
          </a:xfrm>
        </p:grpSpPr>
        <p:sp>
          <p:nvSpPr>
            <p:cNvPr id="109" name="AutoShape 30"/>
            <p:cNvSpPr/>
            <p:nvPr/>
          </p:nvSpPr>
          <p:spPr>
            <a:xfrm>
              <a:off x="5540400" y="1149480"/>
              <a:ext cx="1865160" cy="5824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9"/>
            <p:cNvSpPr/>
            <p:nvPr/>
          </p:nvSpPr>
          <p:spPr>
            <a:xfrm>
              <a:off x="5948280" y="1246320"/>
              <a:ext cx="116568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licy Implement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Development Program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ergency Respon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27"/>
          <p:cNvSpPr/>
          <p:nvPr/>
        </p:nvSpPr>
        <p:spPr>
          <a:xfrm>
            <a:off x="7113600" y="2158920"/>
            <a:ext cx="2332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5695920" y="173196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 flipV="1">
            <a:off x="6997680" y="2955600"/>
            <a:ext cx="0" cy="2097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6589800" y="2703600"/>
            <a:ext cx="69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V="1">
            <a:off x="5249880" y="1887480"/>
            <a:ext cx="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599000" y="211140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4113360" y="1838160"/>
            <a:ext cx="1030320" cy="165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3997440" y="1692360"/>
            <a:ext cx="814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TANDRE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9"/>
          <p:cNvSpPr/>
          <p:nvPr/>
        </p:nvSpPr>
        <p:spPr>
          <a:xfrm>
            <a:off x="4782960" y="1722600"/>
            <a:ext cx="932040" cy="349200"/>
          </a:xfrm>
          <a:custGeom>
            <a:avLst/>
            <a:gdLst>
              <a:gd name="textAreaLeft" fmla="*/ 0 w 932040"/>
              <a:gd name="textAreaRight" fmla="*/ 932400 w 932040"/>
              <a:gd name="textAreaTop" fmla="*/ 0 h 349200"/>
              <a:gd name="textAreaBottom" fmla="*/ 349200 h 349200"/>
            </a:gdLst>
            <a:ahLst/>
            <a:rect l="textAreaLeft" t="textAreaTop" r="textAreaRight" b="textAreaBottom"/>
            <a:pathLst>
              <a:path w="1980" h="900">
                <a:moveTo>
                  <a:pt x="0" y="900"/>
                </a:moveTo>
                <a:cubicBezTo>
                  <a:pt x="15" y="615"/>
                  <a:pt x="30" y="330"/>
                  <a:pt x="360" y="180"/>
                </a:cubicBezTo>
                <a:cubicBezTo>
                  <a:pt x="690" y="30"/>
                  <a:pt x="1710" y="30"/>
                  <a:pt x="19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570640" y="173196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4316400" y="188748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 flipV="1">
            <a:off x="4181400" y="2529000"/>
            <a:ext cx="0" cy="465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6648480" y="2529000"/>
            <a:ext cx="0" cy="465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4210200" y="253836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6648480" y="2984400"/>
            <a:ext cx="0" cy="384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65280" y="2120760"/>
            <a:ext cx="610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Fin. and Econ.P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KUKUT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9080" y="2120760"/>
            <a:ext cx="59688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Com. Dev. Gender and Childr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519120" y="1887480"/>
            <a:ext cx="46656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353880" y="2936880"/>
            <a:ext cx="180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V="1">
            <a:off x="4200480" y="6811560"/>
            <a:ext cx="24573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192560" y="2554200"/>
            <a:ext cx="2448000" cy="4238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ional MUCHALI Secretari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R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ation of FSIT/MSTT (management, sustainability, GoT decision making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idation of reporting and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velihood-based Food Security &amp; Nutrition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ountability for evidence-based deci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urpose/Objec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 actionable knowledge to decision makers for food security policy, development activities, and emergency 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ort decentralization of food security and nutrition analysis to Local Gov’t Author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tuation Analysis, Intervention Analysis, Decentralization Support, Applied Research, Information Management,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ly located in MAFC but with distinct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ord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ical Coordinator (from MAFC), Institutional Coordinator (from PMO), FS Analysts (2), Nutrition Analyst (from TFNC), Disaster Risk Management Analyst (from PMO) Trainers (2), Information Manager, Communications Officer, admin (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conded Technical Advi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MD, TFNC, FEWSNET, WFP, FAO, UNICEF, SCF, OXFAM, Rotating District Analysts, Other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un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vernment (Direct funding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ket Fun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191120" y="2975040"/>
            <a:ext cx="0" cy="384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8"/>
          <p:cNvSpPr/>
          <p:nvPr/>
        </p:nvSpPr>
        <p:spPr>
          <a:xfrm>
            <a:off x="4981680" y="304920"/>
            <a:ext cx="3705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AL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nd Nutrition Security for all Tanzanians through adequate and stable access, availability, and utilization of nutritious fo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7"/>
          <p:cNvSpPr/>
          <p:nvPr/>
        </p:nvSpPr>
        <p:spPr>
          <a:xfrm flipV="1">
            <a:off x="6500880" y="752040"/>
            <a:ext cx="1440" cy="34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3"/>
          <p:cNvSpPr/>
          <p:nvPr/>
        </p:nvSpPr>
        <p:spPr>
          <a:xfrm>
            <a:off x="38160" y="1401840"/>
            <a:ext cx="799920" cy="5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V.P.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2"/>
          <p:cNvSpPr/>
          <p:nvPr/>
        </p:nvSpPr>
        <p:spPr>
          <a:xfrm>
            <a:off x="7924680" y="809640"/>
            <a:ext cx="115740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 S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Producers, Trade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84"/>
          <p:cNvGrpSpPr/>
          <p:nvPr/>
        </p:nvGrpSpPr>
        <p:grpSpPr>
          <a:xfrm>
            <a:off x="6576840" y="695160"/>
            <a:ext cx="1352880" cy="609840"/>
            <a:chOff x="6576840" y="695160"/>
            <a:chExt cx="1352880" cy="609840"/>
          </a:xfrm>
        </p:grpSpPr>
        <p:sp>
          <p:nvSpPr>
            <p:cNvPr id="138" name="AutoShape 86"/>
            <p:cNvSpPr/>
            <p:nvPr/>
          </p:nvSpPr>
          <p:spPr>
            <a:xfrm rot="16200000">
              <a:off x="6910200" y="361800"/>
              <a:ext cx="609840" cy="1276560"/>
            </a:xfrm>
            <a:prstGeom prst="upArrow">
              <a:avLst>
                <a:gd name="adj1" fmla="val 50000"/>
                <a:gd name="adj2" fmla="val 52332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5"/>
            <p:cNvSpPr/>
            <p:nvPr/>
          </p:nvSpPr>
          <p:spPr>
            <a:xfrm>
              <a:off x="6807960" y="771120"/>
              <a:ext cx="1121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creased produc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ree market exchang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urchasing Pow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90"/>
          <p:cNvSpPr/>
          <p:nvPr/>
        </p:nvSpPr>
        <p:spPr>
          <a:xfrm>
            <a:off x="9360" y="-2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3"/>
          <p:cNvSpPr/>
          <p:nvPr/>
        </p:nvSpPr>
        <p:spPr>
          <a:xfrm>
            <a:off x="11160" y="-1162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4"/>
          <p:cNvSpPr/>
          <p:nvPr/>
        </p:nvSpPr>
        <p:spPr>
          <a:xfrm>
            <a:off x="11160" y="524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5"/>
          <p:cNvSpPr/>
          <p:nvPr/>
        </p:nvSpPr>
        <p:spPr>
          <a:xfrm>
            <a:off x="9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4"/>
          <p:cNvSpPr/>
          <p:nvPr/>
        </p:nvSpPr>
        <p:spPr>
          <a:xfrm>
            <a:off x="9360" y="711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5"/>
          <p:cNvSpPr/>
          <p:nvPr/>
        </p:nvSpPr>
        <p:spPr>
          <a:xfrm>
            <a:off x="762120" y="45720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CHALI Institution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7:09:54Z</dcterms:created>
  <dc:creator>nick</dc:creator>
  <dc:description/>
  <dc:language>en-US</dc:language>
  <cp:lastModifiedBy>Rutachokozibwa</cp:lastModifiedBy>
  <dcterms:modified xsi:type="dcterms:W3CDTF">2011-09-05T08:26:21Z</dcterms:modified>
  <cp:revision>87</cp:revision>
  <dc:subject/>
  <dc:title>Slide 1</dc:title>
</cp:coreProperties>
</file>